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chimes.wav" ContentType="audio/x-wav"/>
  <Override PartName="/ppt/media/image16.jpeg" ContentType="image/jpeg"/>
  <Override PartName="/ppt/media/image2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481-90F2-4484-B654-D0715C94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935-09D6-4DD3-A478-96DADB50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886-95DA-4B25-BD5F-8175F427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205-5FBB-4FFE-98B2-09B050B3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6EA-5709-4BDC-AC75-D10F5921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807-1CB1-44EE-BCF6-E5E46427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BD2-4822-4691-9DD0-E2BB28B0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03F-1525-4F0B-A02E-70C96AD4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048-9C0D-45E9-B185-BF070ED6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812-25BC-4A99-A099-D27B358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311-0873-4376-8CB3-188C677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A14-13E4-4BDC-B7BA-953DF789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76D1-A2F4-4D4A-A24B-1520B6E0AC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134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北师大版三年级上册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语文多媒体课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389736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新课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新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新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0" r="0" b="6946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91600" y="69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北京北海公园白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海公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在北京故宫西北侧，是我国现存最完整的古代园林之一，是首都北京的游览胜地，全国重点文物保护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969840"/>
            <a:ext cx="74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、正当小朋友们欣赏美景之时，小船有是怎样的状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25560" y="1916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（小船儿轻轻漂荡在水中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3495600"/>
            <a:ext cx="757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（“推开波浪”表明小朋友们在划桨，小船儿在行进；“轻轻漂荡”表明小朋友们停止划桨，任小船儿在水面上慢慢漂动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1480" y="5502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（因为小朋友们被湖面的美景迷住了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55420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、比较“轻轻漂荡”与上文的“推开波浪”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5440" y="4997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、小朋友们为什么停止划桨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rcRect l="2157" t="1860" r="1736" b="5782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403280" y="1557360"/>
            <a:ext cx="60483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红领巾迎着太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阳光洒在海面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水中鱼儿望着我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悄悄地听我们愉快歌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船儿轻轻漂荡在水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迎面吹来了凉爽的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3000" y="333216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1520" y="309420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拟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87280" y="26431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红领巾迎着太阳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60680" y="365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意思是少先队员心向着共产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" y="1523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cc3399"/>
                </a:solidFill>
                <a:latin typeface="Times New Roman"/>
              </a:rPr>
              <a:t>阳光洒在海面上”，洒在少先队员身上是什么感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53376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表达了中国共产党带来了光明和温暖，正哺育少先队员茁壮成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rcRect l="2157" t="1860" r="1736" b="5782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692360" y="1484280"/>
            <a:ext cx="6553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做完了一天的功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我们来尽情欢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我问你亲爱的伙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谁给我们安排下幸福的生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船儿轻轻漂荡在水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迎面吹来了凉爽的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00280" y="390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24000" y="98100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黑体"/>
              </a:rPr>
              <a:t>我问你亲爱的伙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黑体"/>
              </a:rPr>
              <a:t>谁给我们安排下幸福的生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2276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是毛主席领导的中国共产党，建立了中华人民共和国，才使我们过上这样幸福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rcRect l="11989" t="5724" r="4115" b="13436"/>
          <a:stretch/>
        </p:blipFill>
        <p:spPr>
          <a:xfrm>
            <a:off x="179280" y="620640"/>
            <a:ext cx="87854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24360" y="148428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7301"/>
                </a:moveTo>
                <a:lnTo>
                  <a:pt x="13700" y="7301"/>
                </a:lnTo>
                <a:lnTo>
                  <a:pt x="14083" y="7667"/>
                </a:lnTo>
                <a:lnTo>
                  <a:pt x="23291" y="7667"/>
                </a:lnTo>
                <a:lnTo>
                  <a:pt x="23848" y="8224"/>
                </a:lnTo>
                <a:lnTo>
                  <a:pt x="23848" y="8772"/>
                </a:lnTo>
                <a:lnTo>
                  <a:pt x="25694" y="8772"/>
                </a:lnTo>
                <a:lnTo>
                  <a:pt x="26059" y="8224"/>
                </a:lnTo>
                <a:lnTo>
                  <a:pt x="26799" y="8224"/>
                </a:lnTo>
                <a:lnTo>
                  <a:pt x="26799" y="13376"/>
                </a:lnTo>
                <a:lnTo>
                  <a:pt x="26059" y="13376"/>
                </a:lnTo>
                <a:lnTo>
                  <a:pt x="25694" y="12828"/>
                </a:lnTo>
                <a:lnTo>
                  <a:pt x="23848" y="12828"/>
                </a:lnTo>
                <a:lnTo>
                  <a:pt x="23848" y="14107"/>
                </a:lnTo>
                <a:lnTo>
                  <a:pt x="14266" y="14107"/>
                </a:lnTo>
                <a:lnTo>
                  <a:pt x="14266" y="9877"/>
                </a:lnTo>
                <a:lnTo>
                  <a:pt x="14083" y="9877"/>
                </a:lnTo>
                <a:lnTo>
                  <a:pt x="13700" y="10243"/>
                </a:lnTo>
                <a:lnTo>
                  <a:pt x="12786" y="1024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69228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欣赏歌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2205000"/>
            <a:ext cx="698508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黑体"/>
              </a:rPr>
              <a:t>这首诗由乔羽创作的。而我国著名的作曲家、指挥家刘炽还为它编配了曲调。它在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黑体"/>
              </a:rPr>
              <a:t>1980</a:t>
            </a: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黑体"/>
              </a:rPr>
              <a:t>年第二届全国少儿歌曲评选中获一等奖，还被列入二十世纪华人经典音乐作品。下面让我们一起来聆听、演唱这动人的旋律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785440" cy="6129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72360" y="2637000"/>
            <a:ext cx="1944720" cy="150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8200" y="692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ff"/>
                </a:solidFill>
                <a:latin typeface="华文中宋"/>
                <a:ea typeface="华文中宋"/>
              </a:rPr>
              <a:t>      </a:t>
            </a:r>
            <a:r>
              <a:rPr b="0" lang="zh-CN" sz="3600" spc="-1" strike="noStrike">
                <a:solidFill>
                  <a:srgbClr val="ff66ff"/>
                </a:solidFill>
                <a:latin typeface="华文中宋"/>
                <a:ea typeface="华文中宋"/>
              </a:rPr>
              <a:t>你生活中遇到过哪些快乐的事情？你愿意说一说，和小伙伴们分享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492360" y="3789360"/>
            <a:ext cx="2378160" cy="178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71640" y="2276640"/>
            <a:ext cx="2089080" cy="1479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9817" t="7150" r="4337" b="9411"/>
          <a:stretch/>
        </p:blipFill>
        <p:spPr>
          <a:xfrm>
            <a:off x="611280" y="4508640"/>
            <a:ext cx="2448000" cy="178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372360" y="479736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780000" y="2060640"/>
            <a:ext cx="201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2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124000" y="2349360"/>
            <a:ext cx="4411800" cy="26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split dir="out" orient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13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2997360"/>
            <a:ext cx="632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让我们荡起双桨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0" t="0" r="811" b="347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191736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１、学会本课生字，以及由生字组成的词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２、能正确、流利、有感情地朗读课文，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３、能想象诗歌描绘的情景，并练习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４、理解诗歌内容，培养学生热爱生活、热爱党、热爱社会主义祖国的思想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92360" y="836640"/>
            <a:ext cx="216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811" b="347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411280" y="2350800"/>
            <a:ext cx="136872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桨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421000"/>
            <a:ext cx="244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jiǎng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9440" y="2421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（船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836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1" name=""/>
          <p:cNvSpPr/>
          <p:nvPr/>
        </p:nvSpPr>
        <p:spPr>
          <a:xfrm>
            <a:off x="3205080" y="4078440"/>
            <a:ext cx="20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yú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61080" y="40766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（愉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0" t="0" r="811" b="347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060720" y="2060640"/>
            <a:ext cx="1224000" cy="1224000"/>
            <a:chOff x="3060720" y="2060640"/>
            <a:chExt cx="1224000" cy="1224000"/>
          </a:xfrm>
        </p:grpSpPr>
        <p:sp>
          <p:nvSpPr>
            <p:cNvPr id="65" name=""/>
            <p:cNvSpPr/>
            <p:nvPr/>
          </p:nvSpPr>
          <p:spPr>
            <a:xfrm>
              <a:off x="306072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06072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7308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284720" y="2060640"/>
            <a:ext cx="1224000" cy="1224000"/>
            <a:chOff x="4284720" y="2060640"/>
            <a:chExt cx="1224000" cy="1224000"/>
          </a:xfrm>
        </p:grpSpPr>
        <p:sp>
          <p:nvSpPr>
            <p:cNvPr id="69" name=""/>
            <p:cNvSpPr/>
            <p:nvPr/>
          </p:nvSpPr>
          <p:spPr>
            <a:xfrm>
              <a:off x="428472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28472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9708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835280" y="2060640"/>
            <a:ext cx="1224000" cy="1224000"/>
            <a:chOff x="1835280" y="2060640"/>
            <a:chExt cx="1224000" cy="1224000"/>
          </a:xfrm>
        </p:grpSpPr>
        <p:sp>
          <p:nvSpPr>
            <p:cNvPr id="73" name=""/>
            <p:cNvSpPr/>
            <p:nvPr/>
          </p:nvSpPr>
          <p:spPr>
            <a:xfrm>
              <a:off x="183528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83528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4764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060720" y="3716280"/>
            <a:ext cx="1224000" cy="1224000"/>
            <a:chOff x="3060720" y="3716280"/>
            <a:chExt cx="1224000" cy="1224000"/>
          </a:xfrm>
        </p:grpSpPr>
        <p:sp>
          <p:nvSpPr>
            <p:cNvPr id="77" name=""/>
            <p:cNvSpPr/>
            <p:nvPr/>
          </p:nvSpPr>
          <p:spPr>
            <a:xfrm>
              <a:off x="306072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06072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7308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835280" y="3716280"/>
            <a:ext cx="1224000" cy="1224000"/>
            <a:chOff x="1835280" y="3716280"/>
            <a:chExt cx="1224000" cy="1224000"/>
          </a:xfrm>
        </p:grpSpPr>
        <p:sp>
          <p:nvSpPr>
            <p:cNvPr id="81" name=""/>
            <p:cNvSpPr/>
            <p:nvPr/>
          </p:nvSpPr>
          <p:spPr>
            <a:xfrm>
              <a:off x="183528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83528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4764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508720" y="3716280"/>
            <a:ext cx="1224000" cy="1224000"/>
            <a:chOff x="5508720" y="3716280"/>
            <a:chExt cx="1224000" cy="1224000"/>
          </a:xfrm>
        </p:grpSpPr>
        <p:sp>
          <p:nvSpPr>
            <p:cNvPr id="85" name=""/>
            <p:cNvSpPr/>
            <p:nvPr/>
          </p:nvSpPr>
          <p:spPr>
            <a:xfrm>
              <a:off x="550872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50872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2108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284720" y="3716280"/>
            <a:ext cx="1224000" cy="1224000"/>
            <a:chOff x="4284720" y="3716280"/>
            <a:chExt cx="1224000" cy="1224000"/>
          </a:xfrm>
        </p:grpSpPr>
        <p:sp>
          <p:nvSpPr>
            <p:cNvPr id="89" name=""/>
            <p:cNvSpPr/>
            <p:nvPr/>
          </p:nvSpPr>
          <p:spPr>
            <a:xfrm>
              <a:off x="428472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28472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97080" y="3746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836720" y="371628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悄愉尽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508720" y="2060640"/>
            <a:ext cx="1224000" cy="1224000"/>
            <a:chOff x="5508720" y="2060640"/>
            <a:chExt cx="1224000" cy="1224000"/>
          </a:xfrm>
        </p:grpSpPr>
        <p:sp>
          <p:nvSpPr>
            <p:cNvPr id="94" name=""/>
            <p:cNvSpPr/>
            <p:nvPr/>
          </p:nvSpPr>
          <p:spPr>
            <a:xfrm>
              <a:off x="550872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50872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21080" y="20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908000" y="2060640"/>
            <a:ext cx="48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桨映塔墙  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4360" y="907920"/>
            <a:ext cx="4248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听范读，看插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781360"/>
            <a:ext cx="4751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1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、水面上有哪些人？哪些景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     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、他们在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     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、四周有哪些美丽的景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2124000" y="2205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8406"/>
                </a:moveTo>
                <a:lnTo>
                  <a:pt x="14691" y="8406"/>
                </a:lnTo>
                <a:lnTo>
                  <a:pt x="19112" y="3794"/>
                </a:lnTo>
                <a:lnTo>
                  <a:pt x="19112" y="17806"/>
                </a:lnTo>
                <a:lnTo>
                  <a:pt x="14691" y="13194"/>
                </a:lnTo>
                <a:lnTo>
                  <a:pt x="10261" y="13194"/>
                </a:lnTo>
                <a:close/>
              </a:path>
              <a:path fill="darken" w="34534" h="21600">
                <a:moveTo>
                  <a:pt x="20766" y="10800"/>
                </a:moveTo>
                <a:lnTo>
                  <a:pt x="24274" y="10800"/>
                </a:lnTo>
              </a:path>
              <a:path fill="darken" w="34534" h="21600">
                <a:moveTo>
                  <a:pt x="20766" y="8406"/>
                </a:moveTo>
                <a:lnTo>
                  <a:pt x="24274" y="5639"/>
                </a:lnTo>
              </a:path>
              <a:path fill="darken" w="34534" h="21600">
                <a:moveTo>
                  <a:pt x="20766" y="13194"/>
                </a:moveTo>
                <a:lnTo>
                  <a:pt x="24274" y="15961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45040" y="836640"/>
            <a:ext cx="3774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2157" t="1860" r="1736" b="5782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1763640" y="973080"/>
            <a:ext cx="5943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让我们荡起双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船儿推开波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海面上倒映着美丽的白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四周环绕着绿树红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船儿轻轻漂荡在水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迎面吹来了凉爽的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29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3789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1042" t="11302" r="0" b="0"/>
          <a:stretch/>
        </p:blipFill>
        <p:spPr>
          <a:xfrm>
            <a:off x="2482920" y="903240"/>
            <a:ext cx="6192720" cy="547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073520" y="1355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</a:rPr>
              <a:t>白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3520" y="303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</a:rPr>
              <a:t>绿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73520" y="49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99"/>
                </a:solidFill>
                <a:latin typeface="Times New Roman"/>
              </a:rPr>
              <a:t>红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CYM</cp:lastModifiedBy>
  <dcterms:modified xsi:type="dcterms:W3CDTF">2007-01-31T06:27:34Z</dcterms:modified>
  <cp:revision>941</cp:revision>
  <dc:subject/>
  <dc:title>幻灯片 1</dc:title>
</cp:coreProperties>
</file>